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9FC-EF9D-4846-8E41-B10C31D3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096-4308-49A8-8FCC-69B23807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62E-936E-4C2A-935E-44651B4E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33A-3AC7-4766-89B1-4BD2F5E2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267-B24F-49B5-85AD-093CFEAE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938-CAB8-4BF7-9F27-2E23C7DE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13D-1E84-4DBF-B448-32734DC4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97E-BAA6-4712-98B5-E764B090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001-0DBB-450B-9E1D-CDE5F3CD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5F7-4786-47FC-B055-3B190463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2B5-C4B6-42A8-ADF3-481400A8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A4B-866B-4EEE-84CA-ECDC5577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001C-4B35-4177-B42B-A4F8E4726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0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1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黄山6"/>
          <p:cNvPicPr/>
          <p:nvPr/>
        </p:nvPicPr>
        <p:blipFill>
          <a:blip r:embed="rId1"/>
          <a:srcRect l="0" t="0" r="0" b="7777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kou5-1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黄山风光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5410080" y="4265640"/>
            <a:ext cx="37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海到尽头天是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山登绝顶我为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572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黄山的云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松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944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0" y="1413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黄山位于安徽省南部，面积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方千米。那里，千峰竞秀，著名的有七十二峰，其中莲花峰、光明顶、天都峰均在海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以上，雄姿灵秀，气势磅礴。黄山与黄河、长江、长城齐名，成为中华民族的象征。奇松、怪石、云海、温泉号称“天下四绝”。被称为黄山“四绝”之一的怪石，以奇取胜，以多著称。那些怪石，似人似物，似鸟似兽，形态各异，生动逼真。其分布遍及峰壑巅坡，构成了一幅幅图画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。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8360" y="33336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黄山简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怪石"/>
          <p:cNvPicPr/>
          <p:nvPr/>
        </p:nvPicPr>
        <p:blipFill>
          <a:blip r:embed="rId2"/>
          <a:stretch/>
        </p:blipFill>
        <p:spPr>
          <a:xfrm>
            <a:off x="0" y="4076640"/>
            <a:ext cx="2987640" cy="278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温泉"/>
          <p:cNvPicPr/>
          <p:nvPr/>
        </p:nvPicPr>
        <p:blipFill>
          <a:blip r:embed="rId3"/>
          <a:stretch/>
        </p:blipFill>
        <p:spPr>
          <a:xfrm>
            <a:off x="6156360" y="4076640"/>
            <a:ext cx="2987640" cy="2781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云海"/>
          <p:cNvPicPr/>
          <p:nvPr/>
        </p:nvPicPr>
        <p:blipFill>
          <a:blip r:embed="rId4"/>
          <a:stretch/>
        </p:blipFill>
        <p:spPr>
          <a:xfrm>
            <a:off x="2987640" y="4079880"/>
            <a:ext cx="3097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96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96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96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黄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676520" y="16002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山奇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5796000" y="1052640"/>
            <a:ext cx="1514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选一选</a:t>
            </a:r>
            <a:endParaRPr b="0" lang="en-US" sz="4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440" y="46800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39640" y="378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黄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石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627280" y="2852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少见的，特别的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627280" y="3573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２、惊异</a:t>
            </a:r>
            <a:r>
              <a:rPr b="1" lang="zh-CN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2627280" y="4365720"/>
            <a:ext cx="62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３、出人意料的，令人难测的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700360" y="5157720"/>
            <a:ext cx="59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４、表示姓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1547640" y="450864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2843280" y="3500280"/>
            <a:ext cx="381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71680" y="838080"/>
            <a:ext cx="800100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自学课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拼音自由读课文，要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确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流利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桌检查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字，交流识字好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给我们详细介绍了几种奇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会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ū       yóu      qí        xiān       pán        f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区     尤     其      仙       盘       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g   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z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胳     膊     巨      当       脖       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g     zh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形          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黄山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371600" y="914400"/>
            <a:ext cx="7377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景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区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仙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石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尤其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石盘   山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峰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胳膊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巨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   每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脖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著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438120" y="685800"/>
            <a:ext cx="826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介绍了哪些黄山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奇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1981080"/>
            <a:ext cx="6819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仙桃石       猴子观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金鸡叫天都    仙人指路  天狗望月  狮子抢球  仙女弹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38120" y="4572000"/>
            <a:ext cx="82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最喜欢那块石头？这些石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奇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处在哪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rId1" action="ppaction://hlinksldjump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>
            <a:hlinkClick r:id="rId2" action="ppaction://hlinksldjump"/>
          </p:cNvPr>
          <p:cNvSpPr/>
          <p:nvPr/>
        </p:nvSpPr>
        <p:spPr>
          <a:xfrm>
            <a:off x="8534520" y="22860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>
            <a:hlinkClick r:id="rId3" action="ppaction://hlinksldjump"/>
          </p:cNvPr>
          <p:cNvSpPr/>
          <p:nvPr/>
        </p:nvSpPr>
        <p:spPr>
          <a:xfrm>
            <a:off x="8534520" y="28195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>
            <a:hlinkClick r:id="rId4" action="ppaction://hlinksldjump"/>
          </p:cNvPr>
          <p:cNvSpPr/>
          <p:nvPr/>
        </p:nvSpPr>
        <p:spPr>
          <a:xfrm>
            <a:off x="8534520" y="33526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68360" y="404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文中给我们介绍了四种奇石，分别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图片2"/>
          <p:cNvPicPr/>
          <p:nvPr/>
        </p:nvPicPr>
        <p:blipFill>
          <a:blip r:embed="rId1"/>
          <a:srcRect l="0" t="0" r="0" b="20611"/>
          <a:stretch/>
        </p:blipFill>
        <p:spPr>
          <a:xfrm>
            <a:off x="5867280" y="1268280"/>
            <a:ext cx="2751120" cy="2808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图片3"/>
          <p:cNvPicPr/>
          <p:nvPr/>
        </p:nvPicPr>
        <p:blipFill>
          <a:blip r:embed="rId2"/>
          <a:srcRect l="0" t="0" r="-593" b="12913"/>
          <a:stretch/>
        </p:blipFill>
        <p:spPr>
          <a:xfrm>
            <a:off x="5796000" y="4292640"/>
            <a:ext cx="2890800" cy="2108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图片4"/>
          <p:cNvPicPr/>
          <p:nvPr/>
        </p:nvPicPr>
        <p:blipFill>
          <a:blip r:embed="rId3"/>
          <a:stretch/>
        </p:blipFill>
        <p:spPr>
          <a:xfrm>
            <a:off x="250920" y="1916280"/>
            <a:ext cx="2597040" cy="2095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图片1"/>
          <p:cNvPicPr/>
          <p:nvPr/>
        </p:nvPicPr>
        <p:blipFill>
          <a:blip r:embed="rId4"/>
          <a:stretch/>
        </p:blipFill>
        <p:spPr>
          <a:xfrm>
            <a:off x="250920" y="4221000"/>
            <a:ext cx="2663640" cy="2421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3059280" y="2637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仙桃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859280" y="1341360"/>
            <a:ext cx="72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金鸡叫天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987640" y="5229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仙人指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572000" y="5157720"/>
            <a:ext cx="11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猴子观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28585E-006 L -0.29132 0.0525 E">
                                      <p:cBhvr>
                                        <p:cTn id="7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11239 L 0.22066 -0.02844 E">
                                      <p:cBhvr>
                                        <p:cTn id="7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-0.01341 L -0.22049 -0.02382 E">
                                      <p:cBhvr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50601E-006 L 0.25191 0.0525 E">
                                      <p:cBhvr>
                                        <p:cTn id="8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黄山1"/>
          <p:cNvPicPr/>
          <p:nvPr/>
        </p:nvPicPr>
        <p:blipFill>
          <a:blip r:embed="rId1"/>
          <a:srcRect l="668" t="0" r="0" b="211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黄山15"/>
          <p:cNvPicPr/>
          <p:nvPr/>
        </p:nvPicPr>
        <p:blipFill>
          <a:blip r:embed="rId1"/>
          <a:srcRect l="55071" t="41414" r="4886" b="24283"/>
          <a:stretch/>
        </p:blipFill>
        <p:spPr>
          <a:xfrm>
            <a:off x="152280" y="11448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6324480" y="51814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124080" y="3049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仙桃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981080" y="3809880"/>
            <a:ext cx="7010640" cy="19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说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仙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桃石”吧，它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好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天上飞下来的一个大桃子，落在山顶的石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207880" y="50292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好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11280" y="4005360"/>
            <a:ext cx="9145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一座陡峭的山峰上，有一只“猴子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两只胳膊抱着腿，一动不动地蹲在山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望着翻滚的云海。这就是有趣的“猴子观海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W020080709328489103124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11280" y="4005360"/>
            <a:ext cx="9145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一座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陡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山峰上，有一只“猴子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两只胳膊抱着腿，一动不动地蹲在山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望着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翻滚的云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这就是有趣的“猴子观海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W020080709328489103124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11280" y="4005360"/>
            <a:ext cx="9145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一座陡峭的山峰上，有一只“猴子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两只胳膊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着腿，一动不动地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山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着翻滚的云海。这就是有趣的“猴子观海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W020080709328489103124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01200000033541115574581341204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6028560" y="907920"/>
            <a:ext cx="23443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仙人指路”就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趣了！远远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去，它真像一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仙人站在高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山峰上，伸着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臂指向前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1200000033541115574581341204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6028560" y="907920"/>
            <a:ext cx="23443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仙人指路”就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趣了！远远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去，它真像一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仙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高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山峰上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着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前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01940910307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924200" y="1512720"/>
            <a:ext cx="535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每当太阳升起，有座山峰上的几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巨石，就变成了一只金光闪闪的雄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它伸着脖子，对着天都峰不住地啼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不用说，这就是著名的“金鸡叫天都”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79280" y="1773360"/>
            <a:ext cx="8640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想一想“天狗望月” “狮子抢球” “仙女弹琴” 这几块奇石的样子，再挑一块说一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先小组内说，再全班交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476280"/>
            <a:ext cx="41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想想说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>
            <a:hlinkClick r:id="rId1" action="ppaction://hlinksldjump"/>
          </p:cNvPr>
          <p:cNvSpPr/>
          <p:nvPr/>
        </p:nvSpPr>
        <p:spPr>
          <a:xfrm>
            <a:off x="8280360" y="6308640"/>
            <a:ext cx="828720" cy="549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>
            <a:hlinkClick r:id="rId2" action="ppaction://hlinksldjump"/>
          </p:cNvPr>
          <p:cNvSpPr/>
          <p:nvPr/>
        </p:nvSpPr>
        <p:spPr>
          <a:xfrm>
            <a:off x="7740720" y="6453360"/>
            <a:ext cx="503280" cy="404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Times New Roman"/>
              </a:rPr>
              <a:t>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仙人背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仙人背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2362320" y="0"/>
            <a:ext cx="39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 Black"/>
                <a:ea typeface="华文新魏"/>
              </a:rPr>
              <a:t>仙人背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kou5-5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金龟探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金龟探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5715000" y="38088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 Black"/>
              </a:rPr>
              <a:t>金龟探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飞来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飞来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067400" y="-19692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 Black"/>
                <a:ea typeface="隶书"/>
              </a:rPr>
              <a:t>飞来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9640" y="69228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我会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">
            <a:hlinkClick r:id="rId1" action="ppaction://hlinksldjump"/>
          </p:cNvPr>
          <p:cNvSpPr/>
          <p:nvPr/>
        </p:nvSpPr>
        <p:spPr>
          <a:xfrm>
            <a:off x="7236000" y="6165720"/>
            <a:ext cx="1439640" cy="6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1"/>
          <p:cNvPicPr/>
          <p:nvPr/>
        </p:nvPicPr>
        <p:blipFill>
          <a:blip r:embed="rId2"/>
          <a:srcRect l="5081" t="0" r="0" b="0"/>
          <a:stretch/>
        </p:blipFill>
        <p:spPr>
          <a:xfrm>
            <a:off x="5221440" y="3700440"/>
            <a:ext cx="1438200" cy="1384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2"/>
          <p:cNvPicPr/>
          <p:nvPr/>
        </p:nvPicPr>
        <p:blipFill>
          <a:blip r:embed="rId3"/>
          <a:srcRect l="0" t="5061" r="0" b="0"/>
          <a:stretch/>
        </p:blipFill>
        <p:spPr>
          <a:xfrm>
            <a:off x="2411280" y="3645000"/>
            <a:ext cx="1440000" cy="1366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5"/>
          <p:cNvPicPr/>
          <p:nvPr/>
        </p:nvPicPr>
        <p:blipFill>
          <a:blip r:embed="rId4"/>
          <a:srcRect l="5204" t="4756" r="5328" b="6840"/>
          <a:stretch/>
        </p:blipFill>
        <p:spPr>
          <a:xfrm>
            <a:off x="3780000" y="3645000"/>
            <a:ext cx="1438200" cy="1352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6"/>
          <p:cNvPicPr/>
          <p:nvPr/>
        </p:nvPicPr>
        <p:blipFill>
          <a:blip r:embed="rId5"/>
          <a:srcRect l="5542" t="0" r="5542" b="0"/>
          <a:stretch/>
        </p:blipFill>
        <p:spPr>
          <a:xfrm>
            <a:off x="1047600" y="3645000"/>
            <a:ext cx="1373400" cy="1439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3"/>
          <p:cNvPicPr/>
          <p:nvPr/>
        </p:nvPicPr>
        <p:blipFill>
          <a:blip r:embed="rId6"/>
          <a:stretch/>
        </p:blipFill>
        <p:spPr>
          <a:xfrm>
            <a:off x="5219640" y="2276640"/>
            <a:ext cx="1368360" cy="134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8"/>
          <p:cNvPicPr/>
          <p:nvPr/>
        </p:nvPicPr>
        <p:blipFill>
          <a:blip r:embed="rId7"/>
          <a:stretch/>
        </p:blipFill>
        <p:spPr>
          <a:xfrm>
            <a:off x="1020600" y="2205000"/>
            <a:ext cx="1387800" cy="144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4"/>
          <p:cNvPicPr/>
          <p:nvPr/>
        </p:nvPicPr>
        <p:blipFill>
          <a:blip r:embed="rId8"/>
          <a:stretch/>
        </p:blipFill>
        <p:spPr>
          <a:xfrm>
            <a:off x="2411280" y="2276640"/>
            <a:ext cx="1368720" cy="1342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7"/>
          <p:cNvPicPr/>
          <p:nvPr/>
        </p:nvPicPr>
        <p:blipFill>
          <a:blip r:embed="rId9"/>
          <a:srcRect l="4489" t="0" r="4607" b="0"/>
          <a:stretch/>
        </p:blipFill>
        <p:spPr>
          <a:xfrm>
            <a:off x="3780000" y="2259000"/>
            <a:ext cx="14396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黄山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黄山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0" y="79704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91440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28600" y="1828800"/>
            <a:ext cx="8381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黄山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黄山12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黄山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黄山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Yujiao</cp:lastModifiedBy>
  <dcterms:modified xsi:type="dcterms:W3CDTF">2016-01-28T16:21:59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